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560-4124-457B-8186-335E1D5A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B3-031E-4E8E-884C-740BF9C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D5A-0DA1-439F-A95B-43F83C86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9C5-E3A3-405D-BEFD-58B39995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8454-CBEA-4DFC-9E21-F8B77451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B475-0759-4F99-BED2-2B8DA0CF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0E0-150D-484B-93A8-E2AC58D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16EC-31DF-4DCE-8AF7-0E3A171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24C0-7A42-4198-8A15-568D4AC9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4724-4AB0-4944-9721-93691BD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F3B-E4E1-4526-AA37-EE8E424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DCB-2C38-4D3B-8E5B-24171A9A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14E0-1737-46B7-A3A3-D4FF08B2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1C0-D6BA-4ADD-A2AC-DFF7F81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FD25-B74F-4764-BBA4-9FBDFC2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75C4-1890-41A9-A721-2890BD04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F151-C012-454B-B47E-D03EA98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A5C-C9EE-4414-BC5A-2E8D9BE6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1A2A-55E9-4B0E-9966-8E6E5A4E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B5F7-C6AE-42C2-B235-E96E982C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9E95-F890-4631-BD40-EDF0333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8766-E6D1-4B79-961B-327FCC8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B6B-4FCE-478A-8FE6-5A2995E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8E26-14A3-40BD-8B7F-6CD5B6BD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186D-464A-48A0-BCE8-C2ECAE3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2584-1FE6-4272-B566-D4ADD59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B03C-BE2B-4EC2-804E-21D9AF7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53A7-4245-4B5F-BF99-D28B570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EDA7-07D3-4F00-B79B-0B60D8B9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6AFF-0044-433A-B05A-E08F181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AE20-A0C7-47FF-B608-EDBD7D5F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A958-C8FA-44C2-A2A1-0B292C4C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4554-7B42-4E92-AC49-95EA1880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A04-F3E5-4DD8-9C3A-49C7504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AD50-271E-4149-8687-A795C90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8618-1E47-4413-B4C4-6C8EABC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6FB5-841A-49BF-B279-D6CFCDD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D8AC-F018-462F-9F13-70DF128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F8A4-387B-426C-B680-B46E86F9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A82D-F885-4CC3-8D21-192514B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F9FD-983C-47C3-B027-401EB5D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8D42-3260-4B93-8D4C-B748350F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9353-A89C-477C-B880-3D9EC181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F23-8E5D-4822-BF6C-CB810CA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05A-F6B6-4D23-BDC8-8529BDBA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F44-D71F-40C8-A5DB-38421AE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F98-030C-47B0-9957-410A7A24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189-7CB0-49B5-BDB1-1885EAE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3B6-C482-4BBC-A080-E696303C03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3612-3150-404A-B9A9-81665A7A73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517D-0C39-4D69-B2F0-EC5DC8E8C0D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772-DE7D-4DBF-9FB4-57624D06CC5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[TB.Lulz.H4x.So1337.itgftw]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Hell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is is a test powerpoint. If you are viewing this, the tutorial works 100% and so does downloa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member to convert all powerpoints to 1997-2003 compatability so all computers can vie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ank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7:41:34Z</dcterms:created>
  <dc:creator>Trevor</dc:creator>
  <dc:description/>
  <dc:language>en-US</dc:language>
  <cp:lastModifiedBy>Trevor</cp:lastModifiedBy>
  <dcterms:modified xsi:type="dcterms:W3CDTF">2008-11-14T07:43:04Z</dcterms:modified>
  <cp:revision>1</cp:revision>
  <dc:subject/>
  <dc:title>Demonstration</dc:title>
</cp:coreProperties>
</file>